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31A36-694F-47D4-8F97-1C3021AC3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48A0E-83E8-4E4E-9AD6-87509B35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E133D-E9A7-4320-9795-4A22FE2A9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B3CC1-2726-4024-842E-431F2D121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4EF1-90AA-4745-9D43-5544A2ED6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EDB3-05E4-410C-BE13-1779310C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A8D3-586E-43C8-92D9-D4EEF1FF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7A36-28D3-4AEA-82D2-063E565E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1E2E-ACEC-4DF6-A989-A9EB73D6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E1649-A28D-46DA-88B7-D0536603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1A4A-484E-4CEE-AAE9-CBFBA6CC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C57BA-E3AA-487E-B407-C253F774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EB5E6-352A-4E4F-898A-2C6B0D4B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DB7A-FC10-4A9E-B850-AE40AC16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05E5-512E-4D1A-B77C-9893E958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0939-96D1-4EBF-A782-303997D8C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99F5-32BD-4F61-BE09-2B1B6F357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7E6CA-6FEC-4082-922F-13FEAADF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30EC7-3B7A-4C4F-A018-4CE7C100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BB000-BB58-49AD-B848-FF085D18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2E3F3-AD0B-42A1-A2E0-F8899503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1C7A2-D490-45E3-890E-A092A959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91B56-8F8D-449B-B6EF-738DE567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1088F-7D69-4753-AE0B-D98DB16E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38C5-3002-4BFA-8D89-5DA7350AE44F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C7B8-C72F-49B3-A4F9-F23C5D7F44A0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Glycolyse Aérobie / anaérobi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469584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chéma du processu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2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éaction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8229600" cy="33703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-360" y="1557360"/>
            <a:ext cx="4310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Dihydroxyacétone-phospha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86280" y="1557360"/>
            <a:ext cx="4257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lycéraldéhyde-3-phospha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56000" y="1700280"/>
            <a:ext cx="576360" cy="216000"/>
          </a:xfrm>
          <a:prstGeom prst="leftRightArrow">
            <a:avLst>
              <a:gd name="adj1" fmla="val 50000"/>
              <a:gd name="adj2" fmla="val 5311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éaction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413000"/>
            <a:ext cx="4257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lycéraldéhyde-3-phospha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1413000"/>
            <a:ext cx="3640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,3-bisphosphoglycéra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56000" y="1557360"/>
            <a:ext cx="792360" cy="216000"/>
          </a:xfrm>
          <a:prstGeom prst="leftRightArrow">
            <a:avLst>
              <a:gd name="adj1" fmla="val 50000"/>
              <a:gd name="adj2" fmla="val 7302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2774880"/>
            <a:ext cx="8229600" cy="22986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99760" y="5537160"/>
            <a:ext cx="811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Mécanisme réactionnel couplant :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1 oxydoréduction + 1 transfert de phosph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Coenzyme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NAD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e molécule de NADH + H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est produite par tri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éaction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8229600" cy="23972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50920" y="1557360"/>
            <a:ext cx="3675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,3-Bisphosphoglycéra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93080" y="1557360"/>
            <a:ext cx="3004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-Phosphoglycéra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40360" y="1700280"/>
            <a:ext cx="863280" cy="216000"/>
          </a:xfrm>
          <a:prstGeom prst="leftRightArrow">
            <a:avLst>
              <a:gd name="adj1" fmla="val 50000"/>
              <a:gd name="adj2" fmla="val 7956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éaction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5440" y="1413000"/>
            <a:ext cx="325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3-phosphoglycer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05440" y="1413000"/>
            <a:ext cx="3283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2-phosphoglycerat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1557360"/>
            <a:ext cx="934920" cy="287280"/>
          </a:xfrm>
          <a:prstGeom prst="leftRightArrow">
            <a:avLst>
              <a:gd name="adj1" fmla="val 50000"/>
              <a:gd name="adj2" fmla="val 6478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" y="2271600"/>
            <a:ext cx="822960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éaction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1440" y="1341360"/>
            <a:ext cx="3283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2-phosphoglycerat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02000" y="1344600"/>
            <a:ext cx="3600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hosphoenolpyruvat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95640" y="1484280"/>
            <a:ext cx="1008000" cy="289080"/>
          </a:xfrm>
          <a:prstGeom prst="leftRightArrow">
            <a:avLst>
              <a:gd name="adj1" fmla="val 50000"/>
              <a:gd name="adj2" fmla="val 6941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57200" y="1992240"/>
            <a:ext cx="822960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éaction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6720" y="1268280"/>
            <a:ext cx="3600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hosphoenolpyruvat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941080" y="1268280"/>
            <a:ext cx="1585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Pyruvat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27640" y="1341360"/>
            <a:ext cx="1079280" cy="360360"/>
          </a:xfrm>
          <a:prstGeom prst="rightArrow">
            <a:avLst>
              <a:gd name="adj1" fmla="val 50000"/>
              <a:gd name="adj2" fmla="val 7487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68360" y="2421000"/>
            <a:ext cx="822960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smes aérob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sation d’oxygène comme accepteur final d’é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932360" y="141300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 Gluco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88000" y="1773360"/>
            <a:ext cx="432000" cy="934920"/>
          </a:xfrm>
          <a:prstGeom prst="downArrow">
            <a:avLst>
              <a:gd name="adj1" fmla="val 50000"/>
              <a:gd name="adj2" fmla="val 54104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00720" y="1628640"/>
            <a:ext cx="1366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H + H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1700280"/>
            <a:ext cx="649080" cy="647640"/>
          </a:xfrm>
          <a:custGeom>
            <a:avLst/>
            <a:gdLst>
              <a:gd name="textAreaLeft" fmla="*/ 86760 w 649080"/>
              <a:gd name="textAreaRight" fmla="*/ 562320 w 649080"/>
              <a:gd name="textAreaTop" fmla="*/ 113400 h 647640"/>
              <a:gd name="textAreaBottom" fmla="*/ 4698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80720" y="2637000"/>
            <a:ext cx="25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olécules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rga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88000" y="3068640"/>
            <a:ext cx="432000" cy="934920"/>
          </a:xfrm>
          <a:prstGeom prst="downArrow">
            <a:avLst>
              <a:gd name="adj1" fmla="val 50000"/>
              <a:gd name="adj2" fmla="val 54104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93640" y="4168800"/>
            <a:ext cx="18144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cc"/>
                </a:solidFill>
                <a:latin typeface="Arial"/>
              </a:rPr>
              <a:t>6CO</a:t>
            </a:r>
            <a:r>
              <a:rPr b="1" lang="en-US" sz="1800" spc="-1" strike="noStrike" baseline="-25000">
                <a:solidFill>
                  <a:srgbClr val="9999cc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9999cc"/>
                </a:solidFill>
                <a:latin typeface="Arial"/>
              </a:rPr>
              <a:t> + 6H</a:t>
            </a:r>
            <a:r>
              <a:rPr b="1" lang="en-US" sz="1800" spc="-1" strike="noStrike" baseline="-25000">
                <a:solidFill>
                  <a:srgbClr val="9999cc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9999cc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cc"/>
                </a:solidFill>
                <a:latin typeface="Arial"/>
              </a:rPr>
              <a:t>+ 36 ou 38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97440" y="3068640"/>
            <a:ext cx="134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H + H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164360" y="3141720"/>
            <a:ext cx="504720" cy="865080"/>
          </a:xfrm>
          <a:custGeom>
            <a:avLst/>
            <a:gdLst>
              <a:gd name="textAreaLeft" fmla="*/ 67320 w 504720"/>
              <a:gd name="textAreaRight" fmla="*/ 437400 w 504720"/>
              <a:gd name="textAreaTop" fmla="*/ 158400 h 865080"/>
              <a:gd name="textAreaBottom" fmla="*/ 59256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07" stAng="-5400000" swAng="-5400000"/>
                <a:lnTo>
                  <a:pt x="0" y="10839"/>
                </a:lnTo>
                <a:arcTo wR="21600" hR="7907" stAng="10800000" swAng="-2759763"/>
                <a:lnTo>
                  <a:pt x="14400" y="21148"/>
                </a:lnTo>
                <a:lnTo>
                  <a:pt x="21600" y="17280"/>
                </a:lnTo>
                <a:lnTo>
                  <a:pt x="14400" y="12508"/>
                </a:lnTo>
                <a:lnTo>
                  <a:pt x="14400" y="15362"/>
                </a:lnTo>
                <a:arcTo wR="21600" hR="7907" stAng="8040237" swAng="2522702"/>
                <a:lnTo>
                  <a:pt x="374" y="9373"/>
                </a:lnTo>
                <a:arcTo wR="21600" hR="7907" stAng="-10562939" swAng="5162939"/>
                <a:close/>
              </a:path>
              <a:path fill="darkenLess" w="21600" h="21600">
                <a:moveTo>
                  <a:pt x="21600" y="0"/>
                </a:moveTo>
                <a:arcTo wR="21600" hR="7907" stAng="-5400000" swAng="-5400000"/>
                <a:lnTo>
                  <a:pt x="0" y="7907"/>
                </a:lnTo>
                <a:arcTo wR="21600" hR="7907" stAng="10800000" swAng="-237061"/>
                <a:lnTo>
                  <a:pt x="374" y="9373"/>
                </a:lnTo>
                <a:arcTo wR="21600" hR="7907" stAng="-10562939" swAng="5162939"/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smes anaérob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3961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sation de molécules organiques comme accepteur final d’é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73800" y="162864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 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77080" y="1989000"/>
            <a:ext cx="287280" cy="935280"/>
          </a:xfrm>
          <a:prstGeom prst="downArrow">
            <a:avLst>
              <a:gd name="adj1" fmla="val 50000"/>
              <a:gd name="adj2" fmla="val 8139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23920" y="1989000"/>
            <a:ext cx="134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H + H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12000" y="2060640"/>
            <a:ext cx="647640" cy="720720"/>
          </a:xfrm>
          <a:custGeom>
            <a:avLst/>
            <a:gdLst>
              <a:gd name="textAreaLeft" fmla="*/ 86760 w 647640"/>
              <a:gd name="textAreaRight" fmla="*/ 560880 w 64764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868000" y="2997360"/>
            <a:ext cx="25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olécules orga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940000" y="357336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236000" y="3573360"/>
            <a:ext cx="8650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99040" y="429264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er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ac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86680" y="429264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er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lcool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24360" y="4941720"/>
            <a:ext cx="360360" cy="574920"/>
          </a:xfrm>
          <a:prstGeom prst="downArrow">
            <a:avLst>
              <a:gd name="adj1" fmla="val 50000"/>
              <a:gd name="adj2" fmla="val 398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812000" y="4941720"/>
            <a:ext cx="360360" cy="574920"/>
          </a:xfrm>
          <a:prstGeom prst="downArrow">
            <a:avLst>
              <a:gd name="adj1" fmla="val 50000"/>
              <a:gd name="adj2" fmla="val 398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49800" y="573408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cc"/>
                </a:solidFill>
                <a:latin typeface="Arial"/>
              </a:rPr>
              <a:t>Acide Lac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04920" y="575316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cc"/>
                </a:solidFill>
                <a:latin typeface="Arial"/>
              </a:rPr>
              <a:t>Étha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19200" y="3213000"/>
            <a:ext cx="134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H + H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80000" y="3429000"/>
            <a:ext cx="360360" cy="576360"/>
          </a:xfrm>
          <a:custGeom>
            <a:avLst/>
            <a:gdLst>
              <a:gd name="textAreaLeft" fmla="*/ 48240 w 360360"/>
              <a:gd name="textAreaRight" fmla="*/ 312120 w 36036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ns tous les cas, la voie est </a:t>
            </a: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irréversibl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glycolyse se passe en 2 phas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99cc"/>
                </a:solidFill>
                <a:latin typeface="Arial"/>
              </a:rPr>
              <a:t>Phase d’investissem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(réaction 1 à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ctivation du gluc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livage en 2 tri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66699"/>
                </a:solidFill>
                <a:latin typeface="Arial"/>
              </a:rPr>
              <a:t>Débit : 2 ATP / glucos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99cc"/>
                </a:solidFill>
                <a:latin typeface="Arial"/>
              </a:rPr>
              <a:t>Phase de rembours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xydoré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ynthèse d’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66699"/>
                </a:solidFill>
                <a:latin typeface="Arial"/>
              </a:rPr>
              <a:t>Crédit : 4 ATP / gluc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éaction 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88000" y="1557360"/>
            <a:ext cx="1578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58560" y="1557360"/>
            <a:ext cx="386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lucose-6-Phosph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48000" y="1628640"/>
            <a:ext cx="1150920" cy="432000"/>
          </a:xfrm>
          <a:prstGeom prst="rightArrow">
            <a:avLst>
              <a:gd name="adj1" fmla="val 50000"/>
              <a:gd name="adj2" fmla="val 66604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8229600" cy="30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éac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-720" y="1484280"/>
            <a:ext cx="3821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lucose-6-phosph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51280" y="1628640"/>
            <a:ext cx="1079640" cy="360360"/>
          </a:xfrm>
          <a:prstGeom prst="leftRightArrow">
            <a:avLst>
              <a:gd name="adj1" fmla="val 50000"/>
              <a:gd name="adj2" fmla="val 5964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03640" y="1484280"/>
            <a:ext cx="390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uctose-6-phosph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826920" y="2637000"/>
            <a:ext cx="748692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éaction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628640"/>
            <a:ext cx="394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uctose-6-Phosph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28640" y="1628640"/>
            <a:ext cx="47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uctose-1,6-bisphosph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24360" y="177336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2921040"/>
            <a:ext cx="822960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éaction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-720" y="1628640"/>
            <a:ext cx="4709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uctose-1,6-bisphosph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640480" y="1628640"/>
            <a:ext cx="350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2 trioses phosph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16360" y="1773360"/>
            <a:ext cx="935280" cy="288720"/>
          </a:xfrm>
          <a:prstGeom prst="leftRightArrow">
            <a:avLst>
              <a:gd name="adj1" fmla="val 50000"/>
              <a:gd name="adj2" fmla="val 64488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73580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3:18:09Z</dcterms:created>
  <dc:creator>Cathy</dc:creator>
  <dc:description/>
  <dc:language>en-US</dc:language>
  <cp:lastModifiedBy>Cathy</cp:lastModifiedBy>
  <dcterms:modified xsi:type="dcterms:W3CDTF">2005-10-11T18:55:37Z</dcterms:modified>
  <cp:revision>52</cp:revision>
  <dc:subject/>
  <dc:title>Glycolyse Aérobie / anaérobie</dc:title>
</cp:coreProperties>
</file>