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D411-5CED-44C7-90BE-7AEC4176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8AD6-7FA9-466E-85F5-70782D03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FA4B-BBFC-40A2-8721-15F2C702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A686-BEFA-436D-BE81-454A8E71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4B72-F4A9-410D-8081-6861F99A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9606-2CBC-4F08-9490-6B732648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DB9F-F550-41F6-BB72-4471BC51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B82E-7653-4906-AE36-24B1ED21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8446-A3A1-455B-B66F-68F4763B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A5EC-319C-4FF7-BC59-DD314A86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A487-7984-4A4C-AA70-ED1DB652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75A5-5FA5-4235-B692-71CF7EFC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BDAF-4677-4E63-A191-5C1FE2D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CD88-232C-4948-AFEF-87B2182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B6EA-E09D-4DBF-8198-8BF21575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8374-90AA-449B-84CE-F8259557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D14C-ECF0-4B28-8106-4E13FAE2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AE62-BA5A-4391-8F3D-A5003985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81A9-EA5D-46F4-B2ED-C974801B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F360-4E0F-404C-9C9E-31217178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7804-80C3-4E3A-BDED-217EF775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4EF4-DFB8-42F2-99C8-70AD2E4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4999-027F-45DA-81CF-9B36DCFE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AE34-9C9E-4431-ABEA-FB2D1480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50AD-5297-4D00-ADE8-37D2CB2CA79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B46-9B9B-49E1-BB7F-019043F5FF3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lycolyse Aérobie / anaérobi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46958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héma du process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229600" cy="3370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360" y="1557360"/>
            <a:ext cx="431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Dihydroxyacétone-phosph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6280" y="1557360"/>
            <a:ext cx="42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ycéraldéhyde-3-phosph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70028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13000"/>
            <a:ext cx="42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ycéraldéhyde-3-phosph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1413000"/>
            <a:ext cx="364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,3-bisphosphoglycé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155736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774880"/>
            <a:ext cx="8229600" cy="229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99760" y="5537160"/>
            <a:ext cx="811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écanisme réactionnel couplant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1 oxydoréduction + 1 transfert de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enzym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NAD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molécule de NADH + H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st produite par tri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229600" cy="2397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1557360"/>
            <a:ext cx="367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,3-Bisphosphoglycé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3080" y="1557360"/>
            <a:ext cx="300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-Phosphoglycé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1700280"/>
            <a:ext cx="863280" cy="216000"/>
          </a:xfrm>
          <a:prstGeom prst="leftRightArrow">
            <a:avLst>
              <a:gd name="adj1" fmla="val 50000"/>
              <a:gd name="adj2" fmla="val 79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5440" y="1413000"/>
            <a:ext cx="325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5440" y="1413000"/>
            <a:ext cx="328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1557360"/>
            <a:ext cx="934920" cy="287280"/>
          </a:xfrm>
          <a:prstGeom prst="leftRightArrow">
            <a:avLst>
              <a:gd name="adj1" fmla="val 50000"/>
              <a:gd name="adj2" fmla="val 647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271600"/>
            <a:ext cx="82296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1440" y="1341360"/>
            <a:ext cx="328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2000" y="1344600"/>
            <a:ext cx="36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1484280"/>
            <a:ext cx="1008000" cy="289080"/>
          </a:xfrm>
          <a:prstGeom prst="leftRightArrow">
            <a:avLst>
              <a:gd name="adj1" fmla="val 50000"/>
              <a:gd name="adj2" fmla="val 69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992240"/>
            <a:ext cx="82296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720" y="1268280"/>
            <a:ext cx="36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1080" y="1268280"/>
            <a:ext cx="15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Pyruva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7640" y="1341360"/>
            <a:ext cx="1079280" cy="360360"/>
          </a:xfrm>
          <a:prstGeom prst="rightArrow">
            <a:avLst>
              <a:gd name="adj1" fmla="val 50000"/>
              <a:gd name="adj2" fmla="val 7487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296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mes aéro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ation d’oxygène comme accepteur final d’é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141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1773360"/>
            <a:ext cx="432000" cy="934920"/>
          </a:xfrm>
          <a:prstGeom prst="downArrow">
            <a:avLst>
              <a:gd name="adj1" fmla="val 50000"/>
              <a:gd name="adj2" fmla="val 5410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1628640"/>
            <a:ext cx="136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1700280"/>
            <a:ext cx="649080" cy="647640"/>
          </a:xfrm>
          <a:custGeom>
            <a:avLst/>
            <a:gdLst>
              <a:gd name="textAreaLeft" fmla="*/ 86760 w 649080"/>
              <a:gd name="textAreaRight" fmla="*/ 562320 w 6490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720" y="26370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lécule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ga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068640"/>
            <a:ext cx="432000" cy="934920"/>
          </a:xfrm>
          <a:prstGeom prst="downArrow">
            <a:avLst>
              <a:gd name="adj1" fmla="val 50000"/>
              <a:gd name="adj2" fmla="val 5410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93640" y="4168800"/>
            <a:ext cx="1814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6CO</a:t>
            </a:r>
            <a:r>
              <a:rPr b="1" lang="en-US" sz="1800" spc="-1" strike="noStrike" baseline="-25000">
                <a:solidFill>
                  <a:srgbClr val="9999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9999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+ 36 ou 38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7440" y="3068640"/>
            <a:ext cx="13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3141720"/>
            <a:ext cx="504720" cy="865080"/>
          </a:xfrm>
          <a:custGeom>
            <a:avLst/>
            <a:gdLst>
              <a:gd name="textAreaLeft" fmla="*/ 67320 w 504720"/>
              <a:gd name="textAreaRight" fmla="*/ 437400 w 504720"/>
              <a:gd name="textAreaTop" fmla="*/ 158400 h 865080"/>
              <a:gd name="textAreaBottom" fmla="*/ 5925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7" stAng="-5400000" swAng="-5400000"/>
                <a:lnTo>
                  <a:pt x="0" y="10839"/>
                </a:lnTo>
                <a:arcTo wR="21600" hR="7907" stAng="10800000" swAng="-2759763"/>
                <a:lnTo>
                  <a:pt x="14400" y="21148"/>
                </a:lnTo>
                <a:lnTo>
                  <a:pt x="21600" y="17280"/>
                </a:lnTo>
                <a:lnTo>
                  <a:pt x="14400" y="12508"/>
                </a:lnTo>
                <a:lnTo>
                  <a:pt x="14400" y="15362"/>
                </a:lnTo>
                <a:arcTo wR="21600" hR="7907" stAng="8040237" swAng="2522702"/>
                <a:lnTo>
                  <a:pt x="374" y="9373"/>
                </a:lnTo>
                <a:arcTo wR="21600" hR="7907" stAng="-10562939" swAng="5162939"/>
                <a:close/>
              </a:path>
              <a:path fill="darkenLess" w="21600" h="21600">
                <a:moveTo>
                  <a:pt x="21600" y="0"/>
                </a:moveTo>
                <a:arcTo wR="21600" hR="7907" stAng="-5400000" swAng="-5400000"/>
                <a:lnTo>
                  <a:pt x="0" y="7907"/>
                </a:lnTo>
                <a:arcTo wR="21600" hR="7907" stAng="10800000" swAng="-237061"/>
                <a:lnTo>
                  <a:pt x="374" y="9373"/>
                </a:lnTo>
                <a:arcTo wR="21600" hR="7907" stAng="-10562939" swAng="5162939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mes anaéro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ation de molécules organiques comme accepteur final d’é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3800" y="16286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1989000"/>
            <a:ext cx="287280" cy="935280"/>
          </a:xfrm>
          <a:prstGeom prst="downArrow">
            <a:avLst>
              <a:gd name="adj1" fmla="val 50000"/>
              <a:gd name="adj2" fmla="val 813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3920" y="1989000"/>
            <a:ext cx="13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06064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8000" y="299736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lécules orga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940000" y="357336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357336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99040" y="429264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c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86680" y="429264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coo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4941720"/>
            <a:ext cx="360360" cy="574920"/>
          </a:xfrm>
          <a:prstGeom prst="downArrow">
            <a:avLst>
              <a:gd name="adj1" fmla="val 50000"/>
              <a:gd name="adj2" fmla="val 398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12000" y="4941720"/>
            <a:ext cx="360360" cy="574920"/>
          </a:xfrm>
          <a:prstGeom prst="downArrow">
            <a:avLst>
              <a:gd name="adj1" fmla="val 50000"/>
              <a:gd name="adj2" fmla="val 398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9800" y="5734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Acide Lac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04920" y="5753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É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9200" y="3213000"/>
            <a:ext cx="13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342900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tous les cas, la voie est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irréversibl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glycolyse se passe en 2 phas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99cc"/>
                </a:solidFill>
                <a:latin typeface="Arial"/>
              </a:rPr>
              <a:t>Phase d’investiss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réaction 1 à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tivation du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vage en 2 tri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6699"/>
                </a:solidFill>
                <a:latin typeface="Arial"/>
              </a:rPr>
              <a:t>Débit : 2 ATP / gluco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99cc"/>
                </a:solidFill>
                <a:latin typeface="Arial"/>
              </a:rPr>
              <a:t>Phase de rembour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xydoré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nthèse d’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6699"/>
                </a:solidFill>
                <a:latin typeface="Arial"/>
              </a:rPr>
              <a:t>Crédit : 4 ATP /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8000" y="1557360"/>
            <a:ext cx="157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8560" y="1557360"/>
            <a:ext cx="386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-6-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1628640"/>
            <a:ext cx="1150920" cy="432000"/>
          </a:xfrm>
          <a:prstGeom prst="rightArrow">
            <a:avLst>
              <a:gd name="adj1" fmla="val 50000"/>
              <a:gd name="adj2" fmla="val 6660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2296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20" y="1484280"/>
            <a:ext cx="382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-6-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628640"/>
            <a:ext cx="1079640" cy="360360"/>
          </a:xfrm>
          <a:prstGeom prst="leftRightArrow">
            <a:avLst>
              <a:gd name="adj1" fmla="val 50000"/>
              <a:gd name="adj2" fmla="val 5964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48428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uctose-6-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74869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28640"/>
            <a:ext cx="39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uctose-6-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28640" y="162864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uctose-1,6-bis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177336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921040"/>
            <a:ext cx="82296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720" y="162864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uctose-1,6-bis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40480" y="1628640"/>
            <a:ext cx="35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2 trioses 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773360"/>
            <a:ext cx="935280" cy="288720"/>
          </a:xfrm>
          <a:prstGeom prst="leftRightArrow">
            <a:avLst>
              <a:gd name="adj1" fmla="val 50000"/>
              <a:gd name="adj2" fmla="val 644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358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3:18:09Z</dcterms:created>
  <dc:creator>Cathy</dc:creator>
  <dc:description/>
  <dc:language>en-US</dc:language>
  <cp:lastModifiedBy>Cathy</cp:lastModifiedBy>
  <dcterms:modified xsi:type="dcterms:W3CDTF">2005-10-11T18:55:37Z</dcterms:modified>
  <cp:revision>52</cp:revision>
  <dc:subject/>
  <dc:title>Glycolyse Aérobie / anaérobie</dc:title>
</cp:coreProperties>
</file>