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E61E-E964-4F4A-AFE9-E8075BC0E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E565-7C8E-4724-AFC8-AC91B438D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3E1D-F412-4348-9D62-FFDBC0E80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DC77-7868-48A3-B8C2-CD333FA41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D312-D45A-481F-A4A3-71DFB43FC9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DE4C-EB3F-4107-A5C4-1A0D457C2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CC7B-821D-44A0-BD0D-1D4B48EB1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4AD7-F68B-4091-966C-C48BA8B1B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B1BC-F86D-442D-A82D-8931EE9D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8352-7408-4F6D-85E1-6C26CB542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6D72-2E82-4FDE-8D9B-C2A61BBA3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5BAD-60BB-427A-B544-79B1F234D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15520" y="6445080"/>
            <a:ext cx="284796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453000"/>
            <a:ext cx="2098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AD1F-49AA-4BA5-BCA5-DDCB1B5F8536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4F363-4038-4459-94B3-22086E271F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B612-B38C-4BF3-A36A-BADC47B6AC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8CFA5-9A59-4325-BE6A-AF5B4AD1FC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3698-F819-4BE3-87E5-046A4C484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4B53-CE0D-4341-99CD-0FB5B833B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F0C53-4616-47E3-A090-82E384C892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BF92-D46D-4003-AAD8-0C8547884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AE40-0111-4515-82B2-7609B21D6E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457200"/>
            <a:ext cx="3809880" cy="285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38760" y="457200"/>
            <a:ext cx="3809880" cy="285768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360" y="3543480"/>
            <a:ext cx="3809880" cy="285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38760" y="3543480"/>
            <a:ext cx="3809880" cy="285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M Biochimie Métabolique "PDH-Krebs" L2 2005-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46B1-25D5-4586-B157-3BB89BE80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3:10:00Z</dcterms:created>
  <dc:creator>Default</dc:creator>
  <dc:description/>
  <dc:language>en-US</dc:language>
  <cp:lastModifiedBy>Default</cp:lastModifiedBy>
  <dcterms:modified xsi:type="dcterms:W3CDTF">2005-10-17T13:14:20Z</dcterms:modified>
  <cp:revision>2</cp:revision>
  <dc:subject/>
  <dc:title>Diapositive 1</dc:title>
</cp:coreProperties>
</file>