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C39A-EB81-4BE4-8080-9E4C09270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31D1-D1FF-49FF-A9EF-398D15F21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FCA5-2C27-4579-B306-D2EA0A6C8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2009-53B1-48A6-A175-1204D1D9DB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1AFC-05B7-463B-BC4D-0ACCF5DBB0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AFEC-E6F0-4023-A6BA-D4D0F66D4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807D-6436-4C0A-B39B-29870B809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8018-B066-4C67-A437-8BE7AD5C5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72C8-5D32-42F0-8F69-75ACE763C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2786-05B4-47BB-83E9-6B655E505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556E-F709-48D8-BC02-0C064EA20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552D-6920-401C-A266-D52787EFE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15520" y="6445080"/>
            <a:ext cx="284796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8000" y="6453000"/>
            <a:ext cx="2098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D360-A9E3-451F-AC60-A406910F4147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4E72-B626-4BF0-A237-E79BAA1423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51AF-94FF-40A7-8030-63CD8E448C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B84C-50A9-4368-9D16-EDB0903958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4729-541F-46AE-BF5B-3075DEAB12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D797-5DA2-461B-8958-924974B1C5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C6F4-2E28-4B8A-96CF-EF23DF98E0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FCAE-7792-4987-B96A-93CC2A4D70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0552F-6D33-43B2-9DBD-7320927686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C727-7381-4A09-8773-E0725D0381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3:10:00Z</dcterms:created>
  <dc:creator>Default</dc:creator>
  <dc:description/>
  <dc:language>en-US</dc:language>
  <cp:lastModifiedBy>Default</cp:lastModifiedBy>
  <dcterms:modified xsi:type="dcterms:W3CDTF">2005-10-17T13:14:20Z</dcterms:modified>
  <cp:revision>2</cp:revision>
  <dc:subject/>
  <dc:title>Diapositive 1</dc:title>
</cp:coreProperties>
</file>