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3CEC-97AC-4E20-9522-B924F9A0E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5DADF-FBD3-4FF5-AF50-C1BBDCBA1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F145-183B-4978-8CFE-28E6021C3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C59F-7618-406A-96E1-61BAD535C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CD2E-F750-4463-83E1-0D146E499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4BF0-8878-42F5-9843-671DA85A9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06EF-9B52-4C05-844F-2AA28B966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9C7D-23CD-4B88-ADEC-71A5FA31E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582FC-40FB-426F-9E8B-E480AC051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8C46-63F6-4317-B52C-8D3B91190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F51AF-CC23-4EFA-9949-F1FF28962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5771-7A1E-488B-915D-F077AB78C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6453000"/>
            <a:ext cx="2951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60920"/>
            <a:ext cx="21751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D1C2-5AC6-4A44-AB03-5130C71F7C78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6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36B4-E877-4868-89D5-5F6D0CA304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B8297-9B8D-495C-B29F-321EDE81F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B34E-5ECD-4C55-99F2-1F8554FFF3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4B8A-61DB-4CDF-AEBC-62118B4E5B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8F38-230C-4B07-9743-79B5431453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B9FE-DB92-426F-BE1A-BC5CEA9E4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59280" y="352440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Bioénergétique" L2 2005-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8E65-A0B2-4143-AE17-233C8A802C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2:30:19Z</dcterms:created>
  <dc:creator>Default</dc:creator>
  <dc:description/>
  <dc:language>en-US</dc:language>
  <cp:lastModifiedBy>Default</cp:lastModifiedBy>
  <dcterms:modified xsi:type="dcterms:W3CDTF">2005-10-17T13:03:25Z</dcterms:modified>
  <cp:revision>3</cp:revision>
  <dc:subject/>
  <dc:title>Album photo</dc:title>
</cp:coreProperties>
</file>