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9ADD-41CF-4E08-A9FF-DDFB1F05E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924A-49F0-42F6-B633-7D4EE911B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D79D-2D3E-44A0-A804-CDBAAE41A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C835-E7AC-4B78-B44B-461F75E02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8CB8-57C8-439B-926E-C60FDB9F0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7663-3CD6-4499-B03D-D4DA2CDC2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09C4-E3D0-45B1-8C89-246F46428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25CA-AF8E-4C74-A9B2-15C9887CE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1776-4441-4A35-A0A2-7B937524C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B554-2DEB-43B2-8764-D323E4E28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81AA-2052-461C-BB62-395732486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02E3-E0F3-4C84-AB0B-800C9F827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453000"/>
            <a:ext cx="295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60920"/>
            <a:ext cx="2175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FBCA-AB16-47C6-A327-8466E3C7870C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B773-E3D0-4682-92AB-724960C969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E9E0-2CD0-4E13-9688-D352CB4DF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B7FD-FC42-4BFC-8C0E-95E7C0B77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A645-9BE9-42A6-9639-381B520D1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BE19-F1B9-48F6-8FB4-84D8F58C6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C903-3B9E-49B3-A964-BDC86D4BD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352440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DB69-8B1D-4B04-87B7-131CBB029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2:30:19Z</dcterms:created>
  <dc:creator>Default</dc:creator>
  <dc:description/>
  <dc:language>en-US</dc:language>
  <cp:lastModifiedBy>Default</cp:lastModifiedBy>
  <dcterms:modified xsi:type="dcterms:W3CDTF">2005-10-17T13:03:25Z</dcterms:modified>
  <cp:revision>3</cp:revision>
  <dc:subject/>
  <dc:title>Album photo</dc:title>
</cp:coreProperties>
</file>