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33364-09A1-4759-892D-02DBF79A7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16583-574E-4901-BDD7-79BBB55B6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35874-F571-459C-B10D-18B49AB48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1B3AB-5E5B-406D-ACEE-CF5A030EFE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03820-4621-4AB8-979C-F19FFC37CE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3F1CE-90BF-4C34-8B65-3434377E8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B2688-082A-4644-867B-8748180A8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AC907-1F45-448A-B073-0D68B298E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E186F-4473-4027-90B2-2D7D78AA4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D38EF-7B34-468A-BF2A-CFAC1BC29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D34F1-B78A-48E3-9F3C-FD84A96DB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66EBA-90A5-4FCF-AB96-A072BE559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15520" y="6516360"/>
            <a:ext cx="28479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88000" y="6524280"/>
            <a:ext cx="209880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F86E-B0FE-4751-A157-CA9B5905226E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Glycolyse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DD03C-3499-49F1-8A67-FA8792CD6D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Glycolyse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6C04A-36A5-49E5-BE26-A20C847C0D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Glycolyse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AF847-4962-4343-B11F-ED8BD50DA2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Glycolyse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CEC5D-23A9-4F1C-897F-F2B15EE9E1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Glycolyse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08C8D-5AF0-4DC7-A0E7-6D7B3F89AB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Glycolyse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E46BC-B2FF-447C-B6FE-88F4748990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Glycolyse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DA94A-5AFD-4C26-9AE6-EC3FFDA33C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Glycolyse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33CE-C7C3-4105-B8BF-2F2FE19333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Glycolyse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68F97-F170-44CF-8427-73150600EF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Glycolyse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DC199-3CCF-48D5-A4F5-7B00D88B18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3:02:19Z</dcterms:created>
  <dc:creator>Default</dc:creator>
  <dc:description/>
  <dc:language>en-US</dc:language>
  <cp:lastModifiedBy>Default</cp:lastModifiedBy>
  <dcterms:modified xsi:type="dcterms:W3CDTF">2005-10-17T13:05:25Z</dcterms:modified>
  <cp:revision>2</cp:revision>
  <dc:subject/>
  <dc:title>Diapositive 1</dc:title>
</cp:coreProperties>
</file>